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E7A3-D2EA-4601-832A-FE7B5AB8E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520-79F6-41F7-AC24-644955F2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FCE-58EA-4204-82DC-0ABC8311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8DD-38FE-4780-B265-9354F3A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F72DA-3B09-404E-BBF8-45E875E5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7AB38-DE0A-409A-93C2-87317AA9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ACFBD-3083-4FF6-BB6D-951F175A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7B183-50DE-42D1-B728-9382C28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FB00B-FE4E-4BB4-98CA-591FE0E2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59DFE-6F36-41BA-8E13-41664E9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B7608-A3A2-4CD3-A532-EE4CB227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1C062-E055-4344-82CD-A12280A3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CED46-4A1A-4BC4-A341-F2A165E4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6E264-52C8-4985-A00C-98A96B8A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2CE-977E-4768-AAEE-369DC732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A17BB-BAA7-49EF-9A6A-BADFF4BB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9C6ED-5FCC-41E0-9FEF-B9C06B4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411F7-ED62-4DC0-80DF-667FE87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48132-15B1-4462-9D45-94E81EAB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31D68-5A00-4E62-A233-75929FA0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97722-88CA-403A-BA32-2A2149A4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07540-6309-4759-98BA-F2FFEE7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6D026-D3CF-4BAE-BE3E-A91DBE18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AC3AB-F8C9-4B12-A994-D077885C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1E5C2-0FFF-4625-8C8A-2D9A9F49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D42-BCE0-4889-9F27-6480E285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52A11-726E-4014-8D66-A0D48618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2AAF0-AB78-4A08-B4F4-CBE3042B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72501-3BF7-4C11-936B-9038D151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CB124-CF7C-4B67-9258-4B0C81D4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1909C-B312-44F1-9FA2-3E1F4C7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50EBC-D4BE-4E25-A8D0-55A4C60B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63D6F-CAC6-4080-B739-786FD879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ECB4-AE60-4CCE-8DE4-F130608E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7FD5C-37B1-479D-894D-8518820B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D2446-30F1-4170-BF82-CB110452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559C-A5A6-4175-AB6F-A8B4D0FD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23B5A-618F-45BC-B3C4-8810AC57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705B7-4C62-4F25-970B-93B2CA92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E18C-A6F8-4AC4-A3E1-6AD76D66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05703-669F-4C4D-91A5-4EB551DE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70D85-169E-47CF-ADDC-71CDBFB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C4308-3342-4B58-989F-06E1626C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EB81C-5B3E-4120-9644-B74B97AA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825D0-EF80-4939-B626-6DBF4CD2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E4371-6603-48EA-A790-05A139C4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5B33F-0C70-4FCB-B1F2-745D7D8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609C-94EF-4BFC-A629-42F411A5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8AC53-C7AB-4CE8-A57F-7FE28AD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3926F-5BAC-4024-AEF4-42E98C8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68A86-580C-4ABE-8F55-A57C4BE3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39E02-3729-452F-AFFC-EB3D3E3D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99513-FC13-4932-BCB1-079594EF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0CF4-D656-4671-A523-15D1A498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D53F-F743-4A43-92C9-438854BD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51E1-574F-4760-85E4-7601095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E62-2898-42A9-A162-925C9F56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A240-90CB-458C-8FD7-38F3C17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2EF-1617-4259-B5E3-F3B4FFC0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145-BF9F-41C9-9814-A1A9B800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9621-56D4-4580-BC75-A9172EBE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B18E-AD8A-488C-86A3-A945CD50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5829-2452-4319-BB7B-2F445F63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9134-6098-4346-BEB9-8C1C2BDC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9A35-0F2D-42EB-8FBE-52A87FF8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97D3-7160-4F71-985C-14FD04BB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A31B-C41B-4D3E-A692-90118664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7252-5E7A-4749-A6AB-083DBC30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E83C-F705-4308-82B9-C56762A9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304-B53A-460D-935C-F533D976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465C-6BBC-480C-B693-6BACB2AF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F1D9-E067-40CB-86FA-EFDCA46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1B15-9194-4A7C-B1F2-D912ECCA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ED27-CC73-4A57-8FD9-EE7DB07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2497-4B58-42FB-8B27-8C0DFF24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91B4-BA2C-4FF8-AB85-1A5DA362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E222-0A45-44E3-9611-344FD7CD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32D6-D68D-4E2D-8838-16825F52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4E75-C0DA-4F2C-B015-50AE3105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EA88-0B3E-4647-93AA-38CD859C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273-D1DB-4F41-9B4D-7982F1D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6ED0-CD71-4D1C-BDFF-94FD25D6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59AF-2D3B-48A9-AF15-2B559B3B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730D-46E7-4DBD-935B-56AF486F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71E3-738F-401A-879B-7862EC7E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0E6A-E2F1-47C9-9743-7C0888D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454A-F6F3-489E-9F26-F881D0B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DD6D2-67AB-480E-8780-DF7156D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678D-960A-4A33-A715-5166E898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8D33-41EE-41B0-BBAA-1D565366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9C7B7-6FFA-4960-BECE-3AB6EC05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219-2C14-40D0-AD1E-D533DF8F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562F-D809-421E-9CAD-F61B0B97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3931-1F12-4240-A1EB-793A7179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02CC7-E5B3-4454-AF13-23989C35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AF1F-EFA2-41F1-B373-F0E73D7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6B89-97BD-43CF-BF6E-3EF202F9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2817-F155-4444-B4CB-AE89C03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A10D-D9FD-4EB8-8913-62CB8CB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FAE0-489A-4FBC-AC31-10D86ED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6660-3D20-40A0-A7AA-6E7BDA73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2D9C5-3382-49B4-B1C5-9FF13DC3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08D-20AD-477F-8972-6F70D3E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04D1-DF0F-4361-8148-5C68C71C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A9BF-488F-4972-99E7-CA036CCA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77456-0056-4820-99D2-E2BD01D8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0373-1118-49C7-A0B3-D7C55666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9A40-94C6-4DC6-BA75-5139C35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C9839-B23A-4356-A6BF-38D2ABD9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7F36-AE3E-4C4D-BDF0-43EBE42E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02061-EACD-4369-9D2A-8115AE1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4780-7B67-4D42-ABB3-4B735897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3729-152C-4C2D-AF49-015CD11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90D-BB37-4A89-8575-D601201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CB974-DC7F-4A74-8E73-4C0302F2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514F-C8EE-41B6-97E9-E03C05B8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DCC3A-B5EC-4EFA-96C7-82D847ED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435F-E3C7-4F5D-BC01-2796D972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925E-EC2A-44C8-809D-1D20ADAE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4BCA-A8CF-4FB3-89B1-24ED7C32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6DF0A-7A61-4196-B477-32CE95D8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FFEF6-E88C-4DDB-BD46-7DDF2CF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B5F3-672A-4EC6-A1FA-FCA92986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5F56F-7E25-4BB8-8A0B-F8CCB51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A44-F8B9-464E-83EF-5DC761F2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D69F-2B14-4FF0-B251-28B5C9B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1DD0-7CED-4722-843E-6EFB2EAB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0333D-3801-4099-966C-FD2165D4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1677-7805-48E5-8400-2FCF5BD0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E78C9-92CC-44DD-93EC-8C5B9F7C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8FAC1-37F9-46A9-95CB-245CE3C7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2A76-52D4-46B1-9E85-A47DC733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B47C-F94B-4C7F-BE61-CB97CA60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301D-8582-4976-9AC9-D6310F58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AC9D-48CB-4B80-B410-6646C2FE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3FF-C11F-4853-8E8D-D0445D3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2CE70-A5BA-4D1F-B7B9-869EC27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9B5DD-0CCD-4551-9720-CECDB562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40B6-807B-43C6-9C5C-21C1771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2BD9-7C00-43C8-9C18-E51C048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4CFBE-0BD2-41A2-84E0-E427E0FA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061F1-0281-492F-AF1F-8223DFB2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26E44-BBBC-497A-A64A-078915B4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5D56C-DBD6-4D21-977D-BAC5A1F4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6E2A9-648E-4D13-AE12-8175C9CA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CDBB1-0D88-4F11-AE66-1C66268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20DE-48CF-4370-92DB-F38E4773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D601-387F-47DB-B86F-D9E1DDEB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BA3A-D965-4E0E-BA5D-3256A808C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0782-E9F3-4EB0-A8B4-1DEA333C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CB9B-87B3-4196-A4F9-71F3EF165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19F5-3997-4C5E-B229-EEBB919CF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A21-AE66-45BF-944B-46ACAE0A8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9D2-16C5-4F74-8B34-775402265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4D2A-CBE8-4941-8999-575BF9AD7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C2CF-43F7-4C31-870B-CCC76B1E1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8D2-C117-4115-9AE8-97D81BCA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E2EF-F307-4D3E-A3BE-0C40A4924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spel Order – The Way of the New Coven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principles of Gospe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Principles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spel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826920" y="2351160"/>
            <a:ext cx="7632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ruth is a revealed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826920" y="3719520"/>
            <a:ext cx="7632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uses human channels to reveal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826920" y="5087880"/>
            <a:ext cx="7632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chooses His me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ru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vea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58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not to be of human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e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:1-3; 22:18,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enger does not think up the message, he only passes on that which he rece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tth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4:13-2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0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rist’s Object Lesson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1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ciple reveals our dependence on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Corinth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7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9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new covenant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od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4:30-3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riarchs and Prophe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90.1; 493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br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is principle victories are g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Chroni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eviation from this principle leads to r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s of the Apostl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8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um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ve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spel commission is given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6:15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96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ject the human channel is to reject Ch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4:1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 Samu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:7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u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:1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89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lat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is God’s messenger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u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:16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cts of the Apostl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2.3, 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insult to God is to reject His me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riarchs and Prophe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2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24.3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imonies for the Chu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:68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ew covenant principle. It is the mystery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Corinth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7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oss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: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o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is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enger is chosen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orinth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: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tend to listen to messengers of thei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Tim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grievous sin if we listen to the messengers of ou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esir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2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does not communicate through other channels if we reject the messenger He cho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atriarch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rophe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7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new covenant principle because it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ea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 to depend on Go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d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Cove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55640" y="249228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truth is a reveale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55640" y="3860640"/>
            <a:ext cx="3457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uses human channels to reveal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55640" y="522936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chooses His me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5075280" y="249228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trut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own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5075280" y="3860640"/>
            <a:ext cx="3457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ust find the truth myself, independent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5075280" y="522936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cho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ight me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755640" y="14842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spel Order under the New Cov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5076720" y="14842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counterfeit under the Old Cov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5:38:57Z</dcterms:created>
  <dc:creator>Andreas Dura</dc:creator>
  <dc:description/>
  <dc:language>en-US</dc:language>
  <cp:lastModifiedBy>Frank Zimmerman</cp:lastModifiedBy>
  <dcterms:modified xsi:type="dcterms:W3CDTF">2025-05-11T05:30:31Z</dcterms:modified>
  <cp:revision>16</cp:revision>
  <dc:subject/>
  <dc:title>Gospel Order – A New Covenant Order </dc:title>
</cp:coreProperties>
</file>